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8D84-C654-4376-A4AB-E123F108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E1A4-D0B5-47E7-A9B3-139FE1C92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539B-001C-442D-A6BC-4FCEB5B616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E00D-37C7-4F6A-AB8F-1DFB686A8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A276-0108-47AF-8138-85ADFBE4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09A2-A4AB-46B3-B065-4031651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A1F7-6896-4B8F-9F70-D4DB24E5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CB46-9711-42F8-A2D5-5EBFC1A8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564A-E5B5-46D5-8C6E-D6E79C2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CF71-80F3-49C4-819C-08251F6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2343-7077-417F-B6E4-51C72226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161-D554-4B51-A0B0-55685A4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F5BA-FD13-4826-9B53-05C539F4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8180-54BF-4845-BF72-51B8DA3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9C8-1532-46D9-BACE-E68934B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5D96-2BC5-487D-985C-AD7E6A90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5F97-4B6E-4F00-83A7-75409AC2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C7CF-3D1F-4A59-A145-39320CB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3ABD-8F01-40D5-8E9D-A2AA441A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F691-306A-431F-BE27-FCBDBF53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95C-CBC3-45E9-BCCB-EC79D0DF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D10C-4518-4E30-9106-250E74B5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47EE-6E2E-4547-AA56-102D21A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446E-A2E4-4686-96DE-9B24A12A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BDB7-BCF1-420F-9A0F-32990A89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0870-2C2D-4538-B931-9C4C6A1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FCE5-48A6-41B6-8C69-6C8C1022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FEF2-73D0-493B-8B01-AB28B66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F936-5DDE-4932-A033-E654383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9276-FF68-4342-86C2-A3CECA5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B011-57FB-4D0D-AE9A-CF2308B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BBCB-DD1C-47F4-9597-EBEFEBC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41A7-8792-44A8-8D22-8617909D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6A67-24CA-43BB-B01B-4BB406C8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36F1-E079-49FF-A928-746D0467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062C-977F-492E-BE62-C14FA58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69F2-857D-4FBC-B618-7729EF59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0DC9-47F3-4FD9-837D-2A6CAA14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7F51-7B8C-42C6-A010-A1E5A703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4703-1001-46FC-AB69-125FCAF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1682-CA5D-4A54-B5D6-307C285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C374-887E-42AE-8945-B6B8CA0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7386-398E-40C9-A632-9D03954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FB58-43AC-47EE-93E3-C6D51BD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B50F-8695-4DEC-8576-63A5FEA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2F71-46DC-4225-ACE2-894AFCB7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6C76-F877-44FD-A63A-3FD1B730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A0A6-E62A-4FD9-87EC-FE377D0E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AF4F-3551-47DC-9E43-2B37463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F25F-F946-4A2F-B175-EB0A4EA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6EEF-560D-4427-8F8A-313AB79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93CC-D7D9-449E-A868-7269937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6CC1-FF5A-4E56-ACBC-6D06A06EF2BB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9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0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3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5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59C-D3A2-4805-B1D3-1866F53E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1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56DA-A732-4335-AF51-D352CB11FA96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18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20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73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78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94B4-8DEE-4F41-A65F-73335D7B96DB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Me llamo ____________      Clase 801</a:t>
            </a:r>
            <a:br>
              <a:rPr sz="3200"/>
            </a:b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La fecha es el 13 de junio del 2016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ropósito # 87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practicamos los verbos Saber y Conocer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practice the verbs “saber” and “conocer”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Actividad Inicial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</a:t>
            </a:r>
            <a:r>
              <a:rPr b="1" lang="es-ES_tradnl" sz="2400" spc="-1" strike="noStrike">
                <a:solidFill>
                  <a:srgbClr val="00cc00"/>
                </a:solidFill>
                <a:latin typeface="Arial"/>
              </a:rPr>
              <a:t>Sab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onoc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 _________ mucho del arte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 a Norma, ella es mi amiga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el arte de Picasso y queremos ir a un museo a ver sus pinturas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_________ tú como ir al museo de arte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no____ como ir, pero ¿__________ tú a Belinda y Ernesto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los si  __________ como ir al museo al museo de arte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pot the word that is NOT a form of saber or conocer: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ab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onozc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onocemos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99072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990720" y="3048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sa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457200" y="4114800"/>
            <a:ext cx="8763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Arial"/>
              </a:rPr>
              <a:t>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I know Spanish.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? (include pronoun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982600" y="5418000"/>
            <a:ext cx="367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  <a:ea typeface="Arial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0520" y="7632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at is a good way to remember when to use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SABER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. used for knowing plac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b. used for knowing people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. used for things that can be learned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d. used for knowing languages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V-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I know her well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La conozco bien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La sé bien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V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we know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Laura”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en you are talking about being familiar with her?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C:\Documents and Settings\Meli\Local Settings\Temporary Internet Files\Content.IE5\EAOZIRK7\MCj04326170000[1].png"/>
          <p:cNvPicPr/>
          <p:nvPr/>
        </p:nvPicPr>
        <p:blipFill>
          <a:blip r:embed="rId1"/>
          <a:srcRect l="0" t="0" r="16677" b="0"/>
          <a:stretch/>
        </p:blipFill>
        <p:spPr>
          <a:xfrm>
            <a:off x="7620120" y="5029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9360">
            <a:solidFill>
              <a:srgbClr val="d0c96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ráctica:</a:t>
            </a:r>
            <a:endParaRPr b="0" lang="en-US" sz="4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2f2b20"/>
                </a:solidFill>
                <a:latin typeface="Tahoma"/>
              </a:rPr>
              <a:t>Copia y completa con Saber o conocer.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Yo ____________a Gia. Somos muy amigas.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Busco mi cuaderno. ¿_________ usted dónde está?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Tengo que llamar a Julia. ¿__________ (tú) su número de teléfono?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Luis es inteligente. ____________hablar español.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¿Quieren hablar bien el español? Es necesario ___________ los verbos irregulares.</a:t>
            </a:r>
            <a:br>
              <a:rPr sz="3200"/>
            </a:b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áctica :</a:t>
            </a:r>
            <a:br>
              <a:rPr sz="4400"/>
            </a:br>
            <a:r>
              <a:rPr b="0" i="1" lang="en-US" sz="2800" spc="-1" strike="noStrike">
                <a:solidFill>
                  <a:srgbClr val="2f2b20"/>
                </a:solidFill>
                <a:latin typeface="Tahoma"/>
              </a:rPr>
              <a:t>¿Saber o conocer?</a:t>
            </a:r>
            <a:br>
              <a:rPr sz="2800"/>
            </a:b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Fill in the blanks with the correct form of “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ab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” or “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.”  Include the “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 personal” if needed.</a:t>
            </a:r>
            <a:endParaRPr b="0" lang="en-US" sz="2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8080" y="22096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nadar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Nuria no ____________ Gustav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Lola y yo ____________ que es miércol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Tú ______________ dónde está la oficin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la ciudad de San Juan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Antonio y Karol ___________ hablar español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Nosotros ___________ Queens muy bien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Michele ____________ la madre de Brian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7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ompleta la hoja distribuida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18:01Z</dcterms:created>
  <dc:creator>Helen Zumaeta</dc:creator>
  <dc:description/>
  <dc:language>en-US</dc:language>
  <cp:lastModifiedBy>Helen Zumaeta</cp:lastModifiedBy>
  <cp:lastPrinted>2016-06-13T17:40:36Z</cp:lastPrinted>
  <dcterms:modified xsi:type="dcterms:W3CDTF">2016-06-13T17:52:04Z</dcterms:modified>
  <cp:revision>27</cp:revision>
  <dc:subject/>
  <dc:title>Me llamo ____________        Clase 7 IM La fecha es el 17 de noviembre del 2011</dc:title>
</cp:coreProperties>
</file>